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0E82-C5F4-4CB8-8771-CA7F691D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9C68-895C-4C5B-9CFB-B00136D9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A8EE-12DB-446C-B276-B710C949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2DB2-5FE7-4A68-A639-EF5CD719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9A38-AAFB-4F02-8DD8-0D88BB6D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4F0D-037B-4539-A8CB-58B6603B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A43B-DABC-4386-94FF-2B49F44A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8928-0146-4673-B346-6A46957F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142B-70E9-4726-833A-EA517696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9E6E-18F5-4C9C-BC8B-BA1DF7D0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B90F-9093-49D6-B4BE-254D0495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8782-877D-4A78-B0FD-A306CDBC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3BD9-9215-4FE1-A98B-0A51E64EF6D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980640"/>
            <a:ext cx="8424720" cy="482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ب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 أساليب التحليل الكمي المستخ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تحليل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980B-E020-48FB-B0DD-B86DD52E6285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تحلي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455920"/>
            <a:ext cx="358164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مشرو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3809880"/>
            <a:ext cx="3581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صنا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15772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ستوى العالم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976E-CECC-4F73-A448-9AE847A3894C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41600" y="1477800"/>
            <a:ext cx="7660800" cy="10314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ساليب المستخدم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6560" y="3366720"/>
            <a:ext cx="7585200" cy="2162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قارنات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عدلات التغي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توسط النس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7558-7B5E-46E9-B2B6-7432DD73792F}" type="slidenum">
              <a:t>3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203120"/>
            <a:ext cx="7772760" cy="763920"/>
          </a:xfrm>
          <a:prstGeom prst="rect">
            <a:avLst/>
          </a:prstGeom>
          <a:gradFill rotWithShape="0">
            <a:gsLst>
              <a:gs pos="0">
                <a:srgbClr val="e7e5e1"/>
              </a:gs>
              <a:gs pos="50000">
                <a:srgbClr val="ffffcc"/>
              </a:gs>
              <a:gs pos="100000">
                <a:srgbClr val="e7e5e1"/>
              </a:gs>
            </a:gsLst>
            <a:lin ang="5400000"/>
          </a:gra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نزعة المركزية (المتوسطا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492280"/>
            <a:ext cx="7772400" cy="381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توسط  = المجموع/العدد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خاصة على مستوى الصنا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وسيط = عدد المرات +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 /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نوال = القيمة الاكثر شيوع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9188-6C6A-4F4F-B94A-CC446C9E2420}" type="slidenum">
              <a:t>4</a:t>
            </a:fld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11280" y="1699920"/>
            <a:ext cx="7772760" cy="912240"/>
          </a:xfrm>
          <a:prstGeom prst="rect">
            <a:avLst/>
          </a:prstGeom>
          <a:gradFill rotWithShape="0">
            <a:gsLst>
              <a:gs pos="0">
                <a:srgbClr val="c7cfc1"/>
              </a:gs>
              <a:gs pos="50000">
                <a:srgbClr val="ffffff"/>
              </a:gs>
              <a:gs pos="100000">
                <a:srgbClr val="c7cfc1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اختلاف والتشت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1400" y="3571920"/>
            <a:ext cx="7716960" cy="23781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e7e5e1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عرفة مدى تجمع قيم النسب المالية أو تشتتها حول المتوسط الحسابي عن طريق حساب الانحراف المعياري لكل نسبة من النس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6969-0E6E-4E65-A55B-7016799605C7}" type="slidenum">
              <a:t>5</a:t>
            </a:fld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1058760"/>
            <a:ext cx="777276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اقات الارتباط والانحد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2920" y="2427120"/>
            <a:ext cx="8893080" cy="402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رتباط هو التلازم بين متغيرين تلازما كميا بحيث تؤدي الزيادة في أحد المتغيرين الى زيادة المتغير الآخر أو العك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يقاس عن طريق حساب معامل ارتباط بيرسون أو سبيرم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قربه من الواحد الصحيح يشير الى وجود ارتباط قوي موجب بين المتغير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641664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8C98-C073-46EB-B51E-A82F0286A499}" type="slidenum">
              <a:t>6</a:t>
            </a:fld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Abu-Ali</cp:lastModifiedBy>
  <dcterms:modified xsi:type="dcterms:W3CDTF">2004-04-06T17:12:41Z</dcterms:modified>
  <cp:revision>22</cp:revision>
  <dc:subject/>
  <dc:title>التحليل المالي والائتماني</dc:title>
</cp:coreProperties>
</file>